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7E3D-8258-429A-8D4C-FB425C04D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4AE4-FCF2-4D11-B4C8-75E5457A5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67ED-426D-4DB4-8829-49C81F752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3A70-4662-4C2B-AF8D-EA4F5DC48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650C-867B-4640-8E12-D020FF616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7229-7F5B-4E6F-BEB5-26EE5D7F3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8645-D81B-4731-A9FA-43C1348C6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4795-FA19-4A70-8A8A-BA7090D1D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E8DE-ADA8-4A09-9787-0A8AE6AFE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6ECF-EBA7-4DC2-A6EA-F65633472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B5EE-2012-4FBC-B50A-F8BC4C8F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3C63-782E-449B-8160-7C917E6CC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3ACE-C94C-4071-BFCF-82DCDB358643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s.gov.br/planos-de-saude-e-operadoras/informacoes-e-avaliacoes-de-operadoras/consultar-dado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CONSULTA DE PLANOS-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33560" y="4417920"/>
            <a:ext cx="62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GREP/D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473076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2214720" y="5319720"/>
            <a:ext cx="629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908-EFE3-4B0A-AB60-34986FD1D5CE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826920" y="1573200"/>
            <a:ext cx="7777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QUE 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erramenta disponível no página da ANS para que os beneficiários e toda sociedade possam obter informações sobre os planos de todas as operadoras 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ais informações estão disponíve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ão disponíveis todas as informações sobre as características dos produtos, tais como: tipo de contratação, segmentação, se o produto está ativo para comercialização ou suspenso, área de abrangência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dereço para cons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ns.gov.br/planos-de-saude-e-operadoras/informacoes-e-avaliacoes-de-operadoras/consultar-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AC8-03FE-4528-AB65-68A405479932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m 4" descr=""/>
          <p:cNvPicPr/>
          <p:nvPr/>
        </p:nvPicPr>
        <p:blipFill>
          <a:blip r:embed="rId1"/>
          <a:stretch/>
        </p:blipFill>
        <p:spPr>
          <a:xfrm>
            <a:off x="55440" y="1041480"/>
            <a:ext cx="9088560" cy="5113080"/>
          </a:xfrm>
          <a:prstGeom prst="rect">
            <a:avLst/>
          </a:prstGeom>
          <a:ln w="0">
            <a:noFill/>
          </a:ln>
        </p:spPr>
      </p:pic>
      <p:sp>
        <p:nvSpPr>
          <p:cNvPr id="97" name="Elipse 2"/>
          <p:cNvSpPr/>
          <p:nvPr/>
        </p:nvSpPr>
        <p:spPr>
          <a:xfrm>
            <a:off x="3800520" y="1736640"/>
            <a:ext cx="598320" cy="28908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ipse 3"/>
          <p:cNvSpPr/>
          <p:nvPr/>
        </p:nvSpPr>
        <p:spPr>
          <a:xfrm>
            <a:off x="3827520" y="2276640"/>
            <a:ext cx="914400" cy="36036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F96B-2190-4629-8D84-42494CF9BA9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ítulo 1"/>
          <p:cNvSpPr/>
          <p:nvPr/>
        </p:nvSpPr>
        <p:spPr>
          <a:xfrm>
            <a:off x="1042920" y="2127240"/>
            <a:ext cx="7777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     </a:t>
            </a: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m 1" descr=""/>
          <p:cNvPicPr/>
          <p:nvPr/>
        </p:nvPicPr>
        <p:blipFill>
          <a:blip r:embed="rId1"/>
          <a:stretch/>
        </p:blipFill>
        <p:spPr>
          <a:xfrm>
            <a:off x="-9360" y="1062000"/>
            <a:ext cx="9151920" cy="5146560"/>
          </a:xfrm>
          <a:prstGeom prst="rect">
            <a:avLst/>
          </a:prstGeom>
          <a:ln w="0">
            <a:noFill/>
          </a:ln>
        </p:spPr>
      </p:pic>
      <p:sp>
        <p:nvSpPr>
          <p:cNvPr id="103" name="Elipse 1"/>
          <p:cNvSpPr/>
          <p:nvPr/>
        </p:nvSpPr>
        <p:spPr>
          <a:xfrm>
            <a:off x="2771640" y="2708280"/>
            <a:ext cx="936720" cy="36036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ipse 2"/>
          <p:cNvSpPr/>
          <p:nvPr/>
        </p:nvSpPr>
        <p:spPr>
          <a:xfrm>
            <a:off x="3657600" y="3357720"/>
            <a:ext cx="914400" cy="35856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ipse 3"/>
          <p:cNvSpPr/>
          <p:nvPr/>
        </p:nvSpPr>
        <p:spPr>
          <a:xfrm>
            <a:off x="2987640" y="4869000"/>
            <a:ext cx="914400" cy="50472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289F-BAF3-4A4B-AA18-C9FEC41C901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"/>
          <p:cNvSpPr/>
          <p:nvPr/>
        </p:nvSpPr>
        <p:spPr>
          <a:xfrm>
            <a:off x="1042920" y="2127240"/>
            <a:ext cx="7777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9107640" cy="5122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ipse 3"/>
          <p:cNvSpPr/>
          <p:nvPr/>
        </p:nvSpPr>
        <p:spPr>
          <a:xfrm>
            <a:off x="4643280" y="3716280"/>
            <a:ext cx="1584360" cy="50472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ULTA DE PLA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m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5" name="Elipse 3"/>
          <p:cNvSpPr/>
          <p:nvPr/>
        </p:nvSpPr>
        <p:spPr>
          <a:xfrm>
            <a:off x="2843280" y="1417680"/>
            <a:ext cx="1584360" cy="914400"/>
          </a:xfrm>
          <a:prstGeom prst="ellipse">
            <a:avLst/>
          </a:prstGeom>
          <a:noFill/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BC7-0A45-4B32-866E-955AD032E19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de Figueiredo Soares</cp:lastModifiedBy>
  <dcterms:modified xsi:type="dcterms:W3CDTF">2016-06-09T20:30:55Z</dcterms:modified>
  <cp:revision>179</cp:revision>
  <dc:subject/>
  <dc:title>Slide 1</dc:title>
</cp:coreProperties>
</file>